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1C5A-3084-499E-B1E8-06F322183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26A8-4775-4812-A9C0-6450CEEA33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662C-EE40-4EF6-BEAD-B675C4F82A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9E70-AA2A-41DB-86DB-714C54A894A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5825-916A-4BE0-B95B-35D8A5C4DB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009-070E-4852-98D9-E6239498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F32-F7BF-4D2A-8805-B319E900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DD3-BCFC-4554-B3BF-96AE7FFC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45A-0A1F-4250-AD08-CDD38800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024-4DD4-4819-A3E0-C65182E5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352-FE6A-462C-9C32-F11358C3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C1B-50B6-4E81-ADE5-4A9EB2F1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10C-BC5D-49F0-A0E5-9D0ED02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997-9911-4D6C-8885-43005996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27B-05CD-4427-B876-5CFDAC42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762-0505-494E-AAA0-BBEA6732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5FD-BF3C-408A-9893-7272ECB1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397-EE9B-460A-90FF-49F0D3F73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arrow.wav" TargetMode="External"/><Relationship Id="rId3" Type="http://schemas.openxmlformats.org/officeDocument/2006/relationships/hyperlink" Target="file:///tmp/home/.config/libreoffice/4/user/gallery/arrow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28600" y="228600"/>
            <a:ext cx="86104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二十五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290760" y="26668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從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學校開車回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6714000" y="6858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騎</a:t>
            </a: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637680" y="37339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坐</a:t>
            </a: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429000" cy="222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ttp://www.istockphoto.com/file_thumbview_approve/5665302/2/istockphoto_5665302-biker-on-motorcycle.jpg"/>
          <p:cNvPicPr/>
          <p:nvPr/>
        </p:nvPicPr>
        <p:blipFill>
          <a:blip r:embed="rId2"/>
          <a:stretch/>
        </p:blipFill>
        <p:spPr>
          <a:xfrm>
            <a:off x="5181480" y="380880"/>
            <a:ext cx="355140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914400" y="91440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開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219320" y="388620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停</a:t>
            </a: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3429000" cy="22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11-92"/>
          <p:cNvPicPr/>
          <p:nvPr/>
        </p:nvPicPr>
        <p:blipFill>
          <a:blip r:embed="rId4"/>
          <a:stretch/>
        </p:blipFill>
        <p:spPr>
          <a:xfrm>
            <a:off x="1219320" y="3657600"/>
            <a:ext cx="2590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"/>
          <p:cNvGrpSpPr/>
          <p:nvPr/>
        </p:nvGrpSpPr>
        <p:grpSpPr>
          <a:xfrm>
            <a:off x="-43560" y="0"/>
            <a:ext cx="9340200" cy="6858000"/>
            <a:chOff x="-43560" y="0"/>
            <a:chExt cx="9340200" cy="6858000"/>
          </a:xfrm>
        </p:grpSpPr>
        <p:grpSp>
          <p:nvGrpSpPr>
            <p:cNvPr id="59" name="Group 7"/>
            <p:cNvGrpSpPr/>
            <p:nvPr/>
          </p:nvGrpSpPr>
          <p:grpSpPr>
            <a:xfrm>
              <a:off x="-43560" y="0"/>
              <a:ext cx="9340200" cy="6858000"/>
              <a:chOff x="-43560" y="0"/>
              <a:chExt cx="9340200" cy="6858000"/>
            </a:xfrm>
          </p:grpSpPr>
          <p:pic>
            <p:nvPicPr>
              <p:cNvPr id="60" name="Picture 1" descr="scan0001_0.tmp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296640" cy="685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1" name="TextBox 2"/>
              <p:cNvGrpSpPr/>
              <p:nvPr/>
            </p:nvGrpSpPr>
            <p:grpSpPr>
              <a:xfrm>
                <a:off x="219240" y="371520"/>
                <a:ext cx="5199840" cy="670320"/>
                <a:chOff x="219240" y="371520"/>
                <a:chExt cx="5199840" cy="670320"/>
              </a:xfrm>
            </p:grpSpPr>
            <p:pic>
              <p:nvPicPr>
                <p:cNvPr id="62" name="TextBox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9240" y="371520"/>
                  <a:ext cx="5199840" cy="67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>
                  <a:off x="228240" y="380520"/>
                  <a:ext cx="5181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3600" spc="-1" strike="noStrike">
                      <a:solidFill>
                        <a:srgbClr val="c00000"/>
                      </a:solidFill>
                      <a:latin typeface="文鼎標楷下漢語寬拼音C1"/>
                      <a:ea typeface="文鼎標楷下漢語寬拼音C1"/>
                    </a:rPr>
                    <a:t>從學校開車回家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Cloud Callout 4"/>
              <p:cNvSpPr/>
              <p:nvPr/>
            </p:nvSpPr>
            <p:spPr>
              <a:xfrm rot="21353400">
                <a:off x="-4680" y="1984320"/>
                <a:ext cx="2238120" cy="1162080"/>
              </a:xfrm>
              <a:prstGeom prst="cloudCallout">
                <a:avLst>
                  <a:gd name="adj1" fmla="val 62041"/>
                  <a:gd name="adj2" fmla="val -31967"/>
                </a:avLst>
              </a:prstGeom>
              <a:solidFill>
                <a:srgbClr val="c0504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3200" spc="-1" strike="noStrike">
                    <a:solidFill>
                      <a:srgbClr val="ffffff"/>
                    </a:solidFill>
                    <a:latin typeface="文鼎標楷下漢語寬拼音C1"/>
                    <a:ea typeface="文鼎標楷下漢語寬拼音C1"/>
                  </a:rPr>
                  <a:t>開始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  <a:ea typeface="新細明體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loud Callout 6"/>
              <p:cNvSpPr/>
              <p:nvPr/>
            </p:nvSpPr>
            <p:spPr>
              <a:xfrm>
                <a:off x="5554800" y="5943600"/>
                <a:ext cx="2781000" cy="533160"/>
              </a:xfrm>
              <a:prstGeom prst="cloudCallout">
                <a:avLst>
                  <a:gd name="adj1" fmla="val 56263"/>
                  <a:gd name="adj2" fmla="val -68675"/>
                </a:avLst>
              </a:prstGeom>
              <a:solidFill>
                <a:srgbClr val="c0504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文鼎標楷下漢語寬拼音C1"/>
                    <a:ea typeface="文鼎標楷下漢語寬拼音C1"/>
                  </a:rPr>
                  <a:t>到了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  <a:ea typeface="新細明體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Rectangle 8"/>
            <p:cNvSpPr/>
            <p:nvPr/>
          </p:nvSpPr>
          <p:spPr>
            <a:xfrm>
              <a:off x="9131400" y="380880"/>
              <a:ext cx="158400" cy="384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8381880" y="0"/>
            <a:ext cx="1526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www.trafficsign.us/650/reg/r3-5l.gif"/>
          <p:cNvPicPr/>
          <p:nvPr/>
        </p:nvPicPr>
        <p:blipFill>
          <a:blip r:embed="rId1"/>
          <a:stretch/>
        </p:blipFill>
        <p:spPr>
          <a:xfrm>
            <a:off x="609480" y="380880"/>
            <a:ext cx="2876760" cy="381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www.trafficsign.us/650/reg/r3-5r.gif"/>
          <p:cNvPicPr/>
          <p:nvPr/>
        </p:nvPicPr>
        <p:blipFill>
          <a:blip r:embed="rId2"/>
          <a:stretch/>
        </p:blipFill>
        <p:spPr>
          <a:xfrm>
            <a:off x="5410080" y="380880"/>
            <a:ext cx="289584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Right Arrow 33"/>
          <p:cNvSpPr/>
          <p:nvPr/>
        </p:nvSpPr>
        <p:spPr>
          <a:xfrm>
            <a:off x="5029200" y="4343400"/>
            <a:ext cx="3733920" cy="20574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eft Arrow 34"/>
          <p:cNvSpPr/>
          <p:nvPr/>
        </p:nvSpPr>
        <p:spPr>
          <a:xfrm>
            <a:off x="0" y="4191120"/>
            <a:ext cx="3809880" cy="23619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467360" y="49528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左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257800" y="4952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右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trafficsign.us/650/reg/r3-5a.gif"/>
          <p:cNvPicPr/>
          <p:nvPr/>
        </p:nvPicPr>
        <p:blipFill>
          <a:blip r:embed="rId1"/>
          <a:stretch/>
        </p:blipFill>
        <p:spPr>
          <a:xfrm>
            <a:off x="2438280" y="228600"/>
            <a:ext cx="4476960" cy="6191280"/>
          </a:xfrm>
          <a:prstGeom prst="rect">
            <a:avLst/>
          </a:prstGeom>
          <a:ln w="0">
            <a:noFill/>
          </a:ln>
        </p:spPr>
      </p:pic>
      <p:sp>
        <p:nvSpPr>
          <p:cNvPr id="75" name="Up Arrow 2">
            <a:hlinkClick r:id="rId2"/>
          </p:cNvPr>
          <p:cNvSpPr/>
          <p:nvPr/>
        </p:nvSpPr>
        <p:spPr>
          <a:xfrm>
            <a:off x="6858000" y="380880"/>
            <a:ext cx="1905120" cy="5181840"/>
          </a:xfrm>
          <a:prstGeom prst="up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開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Up Arrow 3">
            <a:hlinkClick r:id="rId3"/>
          </p:cNvPr>
          <p:cNvSpPr/>
          <p:nvPr/>
        </p:nvSpPr>
        <p:spPr>
          <a:xfrm>
            <a:off x="380880" y="609480"/>
            <a:ext cx="1905120" cy="5181840"/>
          </a:xfrm>
          <a:prstGeom prst="up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走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838080" y="12193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, Pai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har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tell, how d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t home from schoo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2" descr=""/>
          <p:cNvPicPr/>
          <p:nvPr/>
        </p:nvPicPr>
        <p:blipFill>
          <a:blip r:embed="rId1"/>
          <a:stretch/>
        </p:blipFill>
        <p:spPr>
          <a:xfrm>
            <a:off x="-152280" y="-6480"/>
            <a:ext cx="725940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trafficsign.us/650/reg/r3-5a.gif"/>
          <p:cNvPicPr/>
          <p:nvPr/>
        </p:nvPicPr>
        <p:blipFill>
          <a:blip r:embed="rId2"/>
          <a:stretch/>
        </p:blipFill>
        <p:spPr>
          <a:xfrm>
            <a:off x="380880" y="2133720"/>
            <a:ext cx="1505160" cy="208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www.trafficsign.us/650/reg/r3-5l.gif"/>
          <p:cNvPicPr/>
          <p:nvPr/>
        </p:nvPicPr>
        <p:blipFill>
          <a:blip r:embed="rId3"/>
          <a:stretch/>
        </p:blipFill>
        <p:spPr>
          <a:xfrm>
            <a:off x="2209680" y="2133720"/>
            <a:ext cx="1465560" cy="1939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http://www.trafficsign.us/650/reg/r3-5r.gif"/>
          <p:cNvPicPr/>
          <p:nvPr/>
        </p:nvPicPr>
        <p:blipFill>
          <a:blip r:embed="rId4"/>
          <a:stretch/>
        </p:blipFill>
        <p:spPr>
          <a:xfrm>
            <a:off x="3962520" y="2133720"/>
            <a:ext cx="144756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5"/>
          <a:stretch/>
        </p:blipFill>
        <p:spPr>
          <a:xfrm>
            <a:off x="6629400" y="380880"/>
            <a:ext cx="2209680" cy="113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http://www.istockphoto.com/file_thumbview_approve/5665302/2/istockphoto_5665302-biker-on-motorcycle.jpg"/>
          <p:cNvPicPr/>
          <p:nvPr/>
        </p:nvPicPr>
        <p:blipFill>
          <a:blip r:embed="rId6"/>
          <a:stretch/>
        </p:blipFill>
        <p:spPr>
          <a:xfrm>
            <a:off x="6324480" y="1752480"/>
            <a:ext cx="240984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kid bike 032210.jpg"/>
          <p:cNvPicPr/>
          <p:nvPr/>
        </p:nvPicPr>
        <p:blipFill>
          <a:blip r:embed="rId7"/>
          <a:stretch/>
        </p:blipFill>
        <p:spPr>
          <a:xfrm>
            <a:off x="6858000" y="3352680"/>
            <a:ext cx="1828800" cy="143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San Lun che 032210.jpg"/>
          <p:cNvPicPr/>
          <p:nvPr/>
        </p:nvPicPr>
        <p:blipFill>
          <a:blip r:embed="rId8"/>
          <a:stretch/>
        </p:blipFill>
        <p:spPr>
          <a:xfrm>
            <a:off x="6705720" y="4876920"/>
            <a:ext cx="1752480" cy="1504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walking 020110.jpg"/>
          <p:cNvPicPr/>
          <p:nvPr/>
        </p:nvPicPr>
        <p:blipFill>
          <a:blip r:embed="rId9"/>
          <a:stretch/>
        </p:blipFill>
        <p:spPr>
          <a:xfrm>
            <a:off x="3200400" y="4343400"/>
            <a:ext cx="1828800" cy="18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https://www.crowdirect.co.uk/case/images/traffic_light_-_caution.gif"/>
          <p:cNvPicPr/>
          <p:nvPr/>
        </p:nvPicPr>
        <p:blipFill>
          <a:blip r:embed="rId10"/>
          <a:stretch/>
        </p:blipFill>
        <p:spPr>
          <a:xfrm>
            <a:off x="990720" y="4495680"/>
            <a:ext cx="1360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55:42Z</dcterms:created>
  <dc:creator>Monica</dc:creator>
  <dc:description/>
  <dc:language>en-US</dc:language>
  <cp:lastModifiedBy>Monica</cp:lastModifiedBy>
  <dcterms:modified xsi:type="dcterms:W3CDTF">2010-03-24T17:43:39Z</dcterms:modified>
  <cp:revision>3</cp:revision>
  <dc:subject/>
  <dc:title>Slide 1</dc:title>
</cp:coreProperties>
</file>